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746-DC5B-4B57-9A6A-230D2CC0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942-D9D8-40A0-A478-6F201BC0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5BD-30EA-4193-9539-D0526C29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185-1C0D-4511-9A08-A2A5112D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E446-DF38-4A50-BE1B-BC73CCFC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53CC-06DA-4F85-91A4-7804E025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C091-0DFE-4EDD-9E6B-0FA4F8F9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5C07-1546-4CCD-A086-C4EC617C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821B-ECD5-442A-95D9-81A07447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1ED8-07E9-45B1-8A1B-DCE41BC5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9F9D-70CA-4185-82E4-A5601E3B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148-29DC-4845-9308-9BEBEB9E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6DFF-61F6-44C3-9CD2-033664C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2658-AFA6-4D95-B3CA-9AD1B595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F00F-6F73-437E-ACFB-168D0738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F320-0D4A-42C0-A46A-FDF1A86C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22FD-D0B4-4C21-81AD-C7D7C365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0D010-7CD5-4E29-AE01-28031B52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974E9-A5E1-4024-A8F7-BC573F92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CB172-37E5-47D5-BCA7-A3D7657F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AD3A9-9A2E-47F5-94AA-80DB3751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46F9D-F0E8-435A-AF5B-2F4B6B74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C3C-1962-4522-B208-3D87E08D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39803-A8A0-4696-9A81-D11BF7FB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3C003-B2A1-463C-808C-15752C7C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2BC83-B489-499A-A264-0A9830E2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72187-CAAB-409A-81AB-8951378D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62C6E-3A64-4E5B-8449-FD2F7532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E9887-8051-42FB-958D-7FB9F84B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26203-4B96-4910-A7ED-82CCAC85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B63E5-8CEE-48D9-8941-7E2633A2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8BA3C-52AA-496E-A456-7AFFF8E0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14ABA-9ECB-48E2-A4E8-18D5F825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231-1B30-4168-923C-7A81DF92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C07E-0A62-4FFB-BBD1-3505C7D2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01893-4756-4944-8612-3F7F10FB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8654-264A-4C1C-9361-4C78CF06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6E28-2AF9-4081-AEB0-29227090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F13AC-EE09-4FCA-B99C-E1D9BA7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11E7-3F9E-4F7E-895A-B497CABB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E9C77-E3E7-4B5E-98B7-C59B09AC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994FD-9CD6-43E2-8AAE-CC2F1982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806C-14D4-48B3-B7CC-8EE227D9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F1C2A-711C-48B7-B264-9BA49291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F36-0734-46B0-9341-2725C2A5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0B8CA-F6B1-48D5-A7D7-B81C830D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AD808-1FE6-4E19-BE79-70C0DADB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A8597-23A5-415E-BF6A-DF590830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10357-1FDC-4BA9-83E5-FC5BD3A5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B179D-AF0A-479F-AADB-1D4DAD9C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44C80-1F00-4F02-B684-0401A5A9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A02696-BE90-4241-8F9E-7A8C7CF3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14484-BE8A-473B-AFCE-3E55AE4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F63C7-6CE9-477E-A0C4-20DFEBA8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0DD80-9897-4941-9B66-E8BF97F5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D30-F02A-4E99-933E-CBD1A008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485F6-B7F6-4539-8F6D-029CED03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C27B54-E9D7-4288-A1D3-93CB4429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CC1B0-C5FC-4E18-B2EF-FD2F9B2D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5A3DF-20E8-4064-B1A0-874C2F36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5BB94-E3A8-48E8-81A3-18795EBB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884098-E6F6-4BEA-9336-DBCBD2A7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CA836-1123-4DFC-972B-3FCB489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467DB-3BB8-47D7-A910-A064DB11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6FBEB-613E-4897-BFB7-80467F62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185BAD-6101-479E-8A08-35755578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69D-583E-4723-9407-5F000F55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C0654-BBE7-47B3-95AB-A019758C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2EE04-A494-4DF0-ACD3-A3C7DF45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0EE18-3BB2-4E18-BAEA-695652D1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7C7A3-6D2B-4576-B292-2519430D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54600-2121-41B5-9C48-997C3241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4968E-186D-4F6E-9200-0D6B2A2D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DF42D-B138-40D0-AD5E-1FB3EAD5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22992-B46E-4D88-9C10-ED284886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B93E76-A494-418E-9249-257DCAF4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B89B9-7D98-4081-A598-D36EE9ED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20F-747A-46D1-8056-B622D2D8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F79AD-DDEC-46C3-814A-F6A9A9A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0B2417-CAFB-4233-80D9-E54CFA7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F7B15-B080-43EC-BBB0-D7E4F41B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C91AC-5620-41BA-9672-8ECF0AD6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8CF01-81BF-4059-B50F-D695FB4A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648-63F6-4102-8A95-920BD71B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e verbindingslijn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Rechte verbindingslijn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Rechte verbindingslijn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hthoe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Rechte verbindingslijn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CCD9-1D60-40F3-978F-9D403770F8E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hthoek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hthoek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hthoe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Rechte verbindingslijn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Rechte verbindingslijn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Rechte verbindingslijn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Rechte verbindingslijn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Rechte verbindingslijn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Rechte verbindingslijn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hthoe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C880-4233-41A4-A590-0201B4705BA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hte verbindingslijn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Rechte verbindingslijn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Rechte verbindingslijn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hthoe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Rechte verbindingslijn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F898-5075-4515-B3BC-2D3F8F68A52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hthoek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hthoek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hthoek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hthoek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Rechte verbindingslijn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Rechte verbindingslijn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Rechte verbindingslijn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Rechte verbindingslijn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Rechte verbindingslijn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hthoek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Rechte verbindingslijn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0EDF-593F-41FC-8D65-6416C7D3FFE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hte verbindingslijn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Rechte verbindingslijn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Rechte verbindingslijn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hthoe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Rechte verbindingslijn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D93D-8A9F-4308-95BF-E889FDA7BE3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hte verbindingslijn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Rechte verbindingslijn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Rechte verbindingslijn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Rechte verbindingslijn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hthoek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Rechte verbindingslijn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246B-324C-4881-9308-78FCFA17AFA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hte verbindingslijn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Rechte verbindingslijn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hthoek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Rechte verbindingslijn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Rechte verbindingslijn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Rechte verbindingslijn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C7F1-495B-4CA1-99E5-CF6CD786880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4e5b6f"/>
                </a:solidFill>
                <a:latin typeface="Century Schoolbook"/>
              </a:rPr>
              <a:t>WELKOM</a:t>
            </a:r>
            <a:endParaRPr b="0" lang="en-US" sz="48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800" spc="-1" strike="noStrike">
              <a:solidFill>
                <a:srgbClr val="4e5b6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GOD IS ÉÉN</a:t>
            </a:r>
            <a:r>
              <a:rPr b="0" lang="nl-NL" sz="3000" spc="-1" strike="noStrike">
                <a:solidFill>
                  <a:srgbClr val="4e5b6f"/>
                </a:solidFill>
                <a:latin typeface="Century Schoolbook"/>
              </a:rPr>
              <a:t>: </a:t>
            </a:r>
            <a:br>
              <a:rPr sz="3000"/>
            </a:br>
            <a:r>
              <a:rPr b="0" lang="nl-NL" sz="3000" spc="-1" strike="noStrike">
                <a:solidFill>
                  <a:srgbClr val="4e5b6f"/>
                </a:solidFill>
                <a:latin typeface="Century Schoolbook"/>
              </a:rPr>
              <a:t>VADER, ZOON EN HEILIGE GEES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78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484360" y="1486080"/>
            <a:ext cx="410364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GOD IS </a:t>
            </a:r>
            <a:r>
              <a:rPr b="1" lang="nl-NL" sz="4000" spc="-1" strike="noStrike">
                <a:solidFill>
                  <a:srgbClr val="4e5b6f"/>
                </a:solidFill>
                <a:latin typeface="Century Schoolbook"/>
              </a:rPr>
              <a:t>LIEFDE</a:t>
            </a: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Hoe weten we da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God de Vader zond zijn Zoon Jezu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Immanuel: God-met-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Afbeelding 3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572000" cy="2933640"/>
          </a:xfrm>
          <a:prstGeom prst="rect">
            <a:avLst/>
          </a:prstGeom>
          <a:ln w="0">
            <a:noFill/>
          </a:ln>
        </p:spPr>
      </p:pic>
      <p:sp>
        <p:nvSpPr>
          <p:cNvPr id="382" name="Hart 4"/>
          <p:cNvSpPr/>
          <p:nvPr/>
        </p:nvSpPr>
        <p:spPr>
          <a:xfrm>
            <a:off x="6858000" y="62244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JEZUS</a:t>
            </a:r>
            <a:r>
              <a:rPr b="0" lang="nl-NL" sz="3000" spc="-1" strike="noStrike">
                <a:solidFill>
                  <a:srgbClr val="4e5b6f"/>
                </a:solidFill>
                <a:latin typeface="Century Schoolbook"/>
              </a:rPr>
              <a:t>, MENS GEWORDEN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8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35120" y="1600200"/>
            <a:ext cx="6912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GESTORVEN EN VERREZEN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8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468360" y="1573200"/>
            <a:ext cx="5371920" cy="3543480"/>
          </a:xfrm>
          <a:prstGeom prst="rect">
            <a:avLst/>
          </a:prstGeom>
          <a:ln w="0">
            <a:noFill/>
          </a:ln>
        </p:spPr>
      </p:pic>
      <p:pic>
        <p:nvPicPr>
          <p:cNvPr id="387" name="Afbeelding 4" descr=""/>
          <p:cNvPicPr/>
          <p:nvPr/>
        </p:nvPicPr>
        <p:blipFill>
          <a:blip r:embed="rId2"/>
          <a:srcRect l="0" t="0" r="0" b="4042"/>
          <a:stretch/>
        </p:blipFill>
        <p:spPr>
          <a:xfrm>
            <a:off x="4643280" y="3789360"/>
            <a:ext cx="40690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4e5b6f"/>
                </a:solidFill>
                <a:latin typeface="Century Schoolbook"/>
              </a:rPr>
              <a:t>HIJ LAAT ONS NIET ALLEEN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8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46280" y="1600200"/>
            <a:ext cx="68896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GEMEENSCHAP VAN GELOVIGEN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9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116000" y="1590840"/>
            <a:ext cx="2376360" cy="3270240"/>
          </a:xfrm>
          <a:prstGeom prst="rect">
            <a:avLst/>
          </a:prstGeom>
          <a:ln w="0">
            <a:noFill/>
          </a:ln>
        </p:spPr>
      </p:pic>
      <p:pic>
        <p:nvPicPr>
          <p:cNvPr id="392" name="Afbeelding 6" descr=""/>
          <p:cNvPicPr/>
          <p:nvPr/>
        </p:nvPicPr>
        <p:blipFill>
          <a:blip r:embed="rId2"/>
          <a:stretch/>
        </p:blipFill>
        <p:spPr>
          <a:xfrm>
            <a:off x="4356000" y="2448000"/>
            <a:ext cx="26956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GOD = LIEF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niet </a:t>
            </a:r>
            <a:r>
              <a:rPr b="0" i="1" lang="nl-NL" sz="2400" spc="-1" strike="noStrike">
                <a:solidFill>
                  <a:srgbClr val="000000"/>
                </a:solidFill>
                <a:latin typeface="Century Schoolbook"/>
              </a:rPr>
              <a:t>het</a:t>
            </a: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 gelo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Maa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Persoonlijke ontmoeting met Jezus Christ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Afbeelding 4" descr=""/>
          <p:cNvPicPr/>
          <p:nvPr/>
        </p:nvPicPr>
        <p:blipFill>
          <a:blip r:embed="rId1"/>
          <a:stretch/>
        </p:blipFill>
        <p:spPr>
          <a:xfrm>
            <a:off x="3708360" y="3500280"/>
            <a:ext cx="43164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ZIJN LIEFDE IS EEN AANBOD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Keuzevrijheid van iedere me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Afbeelding 4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3294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GOD ZEG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Ik ben er voor jo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Ik heb je lie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Ik draag jou dag aan da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Jij bent kostbaar in mijn og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Jij bent waardev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Wees niet ba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Ik ben bij 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Afbeelding 3" descr=""/>
          <p:cNvPicPr/>
          <p:nvPr/>
        </p:nvPicPr>
        <p:blipFill>
          <a:blip r:embed="rId1"/>
          <a:srcRect l="0" t="0" r="0" b="8737"/>
          <a:stretch/>
        </p:blipFill>
        <p:spPr>
          <a:xfrm>
            <a:off x="4427640" y="76500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GELOVEN IS EEN GROEIPROCE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Je hele lev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Ieder mens unieke we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Geloven doe je sam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Afbeelding 3" descr=""/>
          <p:cNvPicPr/>
          <p:nvPr/>
        </p:nvPicPr>
        <p:blipFill>
          <a:blip r:embed="rId1"/>
          <a:stretch/>
        </p:blipFill>
        <p:spPr>
          <a:xfrm>
            <a:off x="2700360" y="3913200"/>
            <a:ext cx="51022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4e5b6f"/>
                </a:solidFill>
                <a:latin typeface="Century Schoolbook"/>
              </a:rPr>
              <a:t>WAT IS </a:t>
            </a:r>
            <a:r>
              <a:rPr b="1" i="1" lang="nl-NL" sz="5400" spc="-1" strike="noStrike">
                <a:solidFill>
                  <a:srgbClr val="4e5b6f"/>
                </a:solidFill>
                <a:latin typeface="Century Schoolbook"/>
              </a:rPr>
              <a:t>GELOVEN</a:t>
            </a:r>
            <a:r>
              <a:rPr b="1" lang="nl-NL" sz="5400" spc="-1" strike="noStrike">
                <a:solidFill>
                  <a:srgbClr val="4e5b6f"/>
                </a:solidFill>
                <a:latin typeface="Century Schoolbook"/>
              </a:rPr>
              <a:t>?</a:t>
            </a:r>
            <a:endParaRPr b="0" lang="en-US" sz="5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800" spc="-1" strike="noStrike">
              <a:solidFill>
                <a:srgbClr val="4e5b6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GELOVEN I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Steu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Bron van lev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Tro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Vreug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Bemoedig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Wijshei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Lich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Hulp voor iedere da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Afbeelding 3" descr=""/>
          <p:cNvPicPr/>
          <p:nvPr/>
        </p:nvPicPr>
        <p:blipFill>
          <a:blip r:embed="rId1"/>
          <a:stretch/>
        </p:blipFill>
        <p:spPr>
          <a:xfrm>
            <a:off x="3851280" y="4160880"/>
            <a:ext cx="4892760" cy="2430360"/>
          </a:xfrm>
          <a:prstGeom prst="rect">
            <a:avLst/>
          </a:prstGeom>
          <a:ln w="0">
            <a:noFill/>
          </a:ln>
        </p:spPr>
      </p:pic>
      <p:pic>
        <p:nvPicPr>
          <p:cNvPr id="408" name="Afbeelding 4" descr=""/>
          <p:cNvPicPr/>
          <p:nvPr/>
        </p:nvPicPr>
        <p:blipFill>
          <a:blip r:embed="rId2"/>
          <a:stretch/>
        </p:blipFill>
        <p:spPr>
          <a:xfrm>
            <a:off x="3851280" y="404640"/>
            <a:ext cx="24922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GELOVEN IS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Jouw persoonlijke keu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Afbeelding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3706560" cy="2781360"/>
          </a:xfrm>
          <a:prstGeom prst="rect">
            <a:avLst/>
          </a:prstGeom>
          <a:ln w="0">
            <a:noFill/>
          </a:ln>
        </p:spPr>
      </p:pic>
      <p:pic>
        <p:nvPicPr>
          <p:cNvPr id="412" name="Afbeelding 5" descr=""/>
          <p:cNvPicPr/>
          <p:nvPr/>
        </p:nvPicPr>
        <p:blipFill>
          <a:blip r:embed="rId2"/>
          <a:stretch/>
        </p:blipFill>
        <p:spPr>
          <a:xfrm>
            <a:off x="5003640" y="352728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4e5b6f"/>
                </a:solidFill>
                <a:latin typeface="Century Schoolbook"/>
              </a:rPr>
              <a:t>WELKOM THUIS</a:t>
            </a:r>
            <a:endParaRPr b="0" lang="en-US" sz="54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14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1641600" y="1914480"/>
            <a:ext cx="53784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GELOVEN IN…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Ie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Goedhei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Stelsel van rege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Waarden / norm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Tradit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Iem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G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GELOVEN IN GOD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Maar Wie is Hij da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70060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IS GOD IETS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Onpersoonlij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Heeft het zi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Gebed nodig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Wat geef je dan je kinderen doo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2" descr="http://data.boomerang.nl/g/gerald/image/rots-in-de-branding/s600/rots.JPG"/>
          <p:cNvPicPr/>
          <p:nvPr/>
        </p:nvPicPr>
        <p:blipFill>
          <a:blip r:embed="rId1"/>
          <a:stretch/>
        </p:blipFill>
        <p:spPr>
          <a:xfrm>
            <a:off x="4211640" y="4076640"/>
            <a:ext cx="36273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IS GOD IEMAND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Relat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Communicatie mogelij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Dialoo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Geb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Kinderen doorgeven en voorlev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http://kijkmeeinbrazilie.files.wordpress.com/2011/11/handen2520in2520gebed.jpg"/>
          <p:cNvPicPr/>
          <p:nvPr/>
        </p:nvPicPr>
        <p:blipFill>
          <a:blip r:embed="rId1"/>
          <a:stretch/>
        </p:blipFill>
        <p:spPr>
          <a:xfrm>
            <a:off x="5508720" y="3443400"/>
            <a:ext cx="3254400" cy="1830240"/>
          </a:xfrm>
          <a:prstGeom prst="rect">
            <a:avLst/>
          </a:prstGeom>
          <a:ln w="0">
            <a:noFill/>
          </a:ln>
        </p:spPr>
      </p:pic>
      <p:pic>
        <p:nvPicPr>
          <p:cNvPr id="366" name="Afbeelding 3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206064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700000" y="-243000"/>
            <a:ext cx="38257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WIE IS GOD?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831680" y="1844640"/>
            <a:ext cx="51879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500" spc="-1" strike="noStrike">
                <a:solidFill>
                  <a:srgbClr val="000000"/>
                </a:solidFill>
                <a:latin typeface="Century Schoolbook"/>
              </a:rPr>
              <a:t>Veelzijdig</a:t>
            </a:r>
            <a:endParaRPr b="0" lang="en-US" sz="8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6697800" cy="569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NAMEN VOOR GOD IN DE BIJBEL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Jahwe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God, de He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2771640" y="2276640"/>
            <a:ext cx="4762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4e5b6f"/>
                </a:solidFill>
                <a:latin typeface="Century Schoolbook"/>
              </a:rPr>
              <a:t>NAMEN VOOR GOD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Schepp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Almachti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Ik ben die 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Eeuwi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Redder / Verloss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Afbeelding 3" descr=""/>
          <p:cNvPicPr/>
          <p:nvPr/>
        </p:nvPicPr>
        <p:blipFill>
          <a:blip r:embed="rId1"/>
          <a:srcRect l="24890" t="25153" r="44462" b="30980"/>
          <a:stretch/>
        </p:blipFill>
        <p:spPr>
          <a:xfrm>
            <a:off x="4767120" y="1197000"/>
            <a:ext cx="2808360" cy="2855880"/>
          </a:xfrm>
          <a:prstGeom prst="rect">
            <a:avLst/>
          </a:prstGeom>
          <a:ln w="0">
            <a:noFill/>
          </a:ln>
        </p:spPr>
      </p:pic>
      <p:pic>
        <p:nvPicPr>
          <p:cNvPr id="376" name="Afbeelding 4" descr=""/>
          <p:cNvPicPr/>
          <p:nvPr/>
        </p:nvPicPr>
        <p:blipFill>
          <a:blip r:embed="rId2"/>
          <a:stretch/>
        </p:blipFill>
        <p:spPr>
          <a:xfrm>
            <a:off x="3678120" y="4292640"/>
            <a:ext cx="24940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5:07:13Z</dcterms:created>
  <dc:creator>Toshiba</dc:creator>
  <dc:description/>
  <dc:language>en-US</dc:language>
  <cp:lastModifiedBy>Wim Koopman</cp:lastModifiedBy>
  <dcterms:modified xsi:type="dcterms:W3CDTF">2013-04-29T14:58:11Z</dcterms:modified>
  <cp:revision>25</cp:revision>
  <dc:subject/>
  <dc:title>Wat is geloven?</dc:title>
</cp:coreProperties>
</file>